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0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41464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41464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99680"/>
            <a:ext cx="777096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0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7162920" y="838080"/>
            <a:ext cx="1981080" cy="633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981080" cy="633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2590920"/>
            <a:ext cx="8481960" cy="37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 Unicode MS"/>
              </a:rPr>
              <a:t>Câmara Técnica de Educação, Capacitação, Mobilização Social e Informação em Recursos Hídri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 Unicode MS"/>
              </a:rPr>
              <a:t>- CTEM / CNRH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Ilhéus, 20 de outubro de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46484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Unicode MS"/>
              </a:rPr>
              <a:t>COMPOSIÇÃO (17 MEMB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MINISTÉRIOS</a:t>
            </a: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 ( FAZENDA, EDUCAÇÃO, SAÚDE, CIDADES, INTEGRAÇÃO NACIONAL, CIÊNCIA E TECNOLOGIA, MEIO AMBIENTE (SRH) E MEIO AMBIENTE (ANA)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CONSELHOS ESTADUAIS DE RECURSOS HÍDRICOS</a:t>
            </a: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 (SP/RJ, RS/SC, BA/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USUÁRIOS DE RECURSOS HÍDRICOS</a:t>
            </a: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 (CONC. E AUTORIZADAS DE GERAÇÃO HIDRELÉTRICA E INDÚSTRI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ORGANIZAÇÕES CIVIS DE RECURSOS HÍDRICOS</a:t>
            </a: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 (COMITÊS DE BACIAS HIDROGRÁFICAS, CONSÓRCIOS E ASSOCIAÇÕES INTERMUNICIPAIS DE BACIAS HIDROGRÁFICAS, ORGANIZAÇÕES DE ENSINO E PESQUISA E ORGANIZAÇÕES NÃO GOVERNAMENTA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45680" y="2479680"/>
            <a:ext cx="8425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26 de Março de 2004: O CNRH aprova a Resolução n.º 39, instituindo a C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7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24 de Junho de 2004: Publicação no Diário Oficial da Res. n.º 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7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05 de Agosto de 2004: Reunião de Instalação da C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7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05 de Agosto de 2004: Eleição do Presidente da C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7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21 de Março de 2005: CNRH aprova Moção que recomenda a instituição da Década Brasileira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7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22 de Março de 2005: Publicação do Decreto que institui a Década Brasileira da Águ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25600" y="2146320"/>
            <a:ext cx="77724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1500"/>
              </a:spcBef>
              <a:spcAft>
                <a:spcPts val="1250"/>
              </a:spcAft>
              <a:buClr>
                <a:srgbClr val="000099"/>
              </a:buClr>
              <a:buFont typeface="Arial Unicode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11 Reuniões realizadas: 04 Reuniões em 2004                                                                   07 Reuniões em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02 Reuniões fora de Brasíl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                                               </a:t>
            </a: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Avaré/SP -  27/10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4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                                           </a:t>
            </a: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Curitiba/PR – 26 e 27/04 de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4000"/>
              </a:lnSpc>
              <a:buClr>
                <a:srgbClr val="000099"/>
              </a:buClr>
              <a:buFont typeface="Arial Unicode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Grupos de Trabalh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Plano de Trabalho da C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Plano de Comunicação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Capaci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Apoio ao SIAPRE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Década Brasileira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Comissão  Mista de Articulação com a Câmara Técnica do Plano Nacional de Recursos Hídr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15145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 Unicode MS"/>
              </a:rPr>
              <a:t>www.cnrh-srh.gov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SECRETARIA EXECUTIVA DO 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sec.executiva@cnrh-srh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592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000099"/>
                </a:solidFill>
                <a:uFillTx/>
                <a:latin typeface="Arial Unicode MS"/>
              </a:rPr>
              <a:t>Sistema Nacional de Gerenciamento de Recursos Hídricos - SINGRE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52280" y="2057400"/>
            <a:ext cx="8858520" cy="4738680"/>
            <a:chOff x="152280" y="2057400"/>
            <a:chExt cx="8858520" cy="4738680"/>
          </a:xfrm>
        </p:grpSpPr>
        <p:sp>
          <p:nvSpPr>
            <p:cNvPr id="51" name=""/>
            <p:cNvSpPr/>
            <p:nvPr/>
          </p:nvSpPr>
          <p:spPr>
            <a:xfrm>
              <a:off x="2971800" y="4665600"/>
              <a:ext cx="3505320" cy="1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152280" y="2057400"/>
              <a:ext cx="8858520" cy="4738680"/>
              <a:chOff x="152280" y="2057400"/>
              <a:chExt cx="8858520" cy="473868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152280" y="2700360"/>
                <a:ext cx="8839440" cy="4095720"/>
                <a:chOff x="152280" y="2700360"/>
                <a:chExt cx="8839440" cy="4095720"/>
              </a:xfrm>
            </p:grpSpPr>
            <p:grpSp>
              <p:nvGrpSpPr>
                <p:cNvPr id="54" name=""/>
                <p:cNvGrpSpPr/>
                <p:nvPr/>
              </p:nvGrpSpPr>
              <p:grpSpPr>
                <a:xfrm>
                  <a:off x="152280" y="2700360"/>
                  <a:ext cx="8839440" cy="642960"/>
                  <a:chOff x="152280" y="2700360"/>
                  <a:chExt cx="8839440" cy="642960"/>
                </a:xfrm>
              </p:grpSpPr>
              <p:grpSp>
                <p:nvGrpSpPr>
                  <p:cNvPr id="55" name=""/>
                  <p:cNvGrpSpPr/>
                  <p:nvPr/>
                </p:nvGrpSpPr>
                <p:grpSpPr>
                  <a:xfrm>
                    <a:off x="152280" y="2828880"/>
                    <a:ext cx="990720" cy="514440"/>
                    <a:chOff x="152280" y="2828880"/>
                    <a:chExt cx="990720" cy="514440"/>
                  </a:xfrm>
                </p:grpSpPr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152280" y="2828880"/>
                      <a:ext cx="990720" cy="514440"/>
                    </a:xfrm>
                    <a:prstGeom prst="roundRect">
                      <a:avLst>
                        <a:gd name="adj" fmla="val 306"/>
                      </a:avLst>
                    </a:prstGeom>
                    <a:solidFill>
                      <a:srgbClr val="ffff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152280" y="2828880"/>
                      <a:ext cx="990720" cy="514440"/>
                    </a:xfrm>
                    <a:prstGeom prst="roundRect">
                      <a:avLst>
                        <a:gd name="adj" fmla="val 306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Âmb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" name=""/>
                  <p:cNvGrpSpPr/>
                  <p:nvPr/>
                </p:nvGrpSpPr>
                <p:grpSpPr>
                  <a:xfrm>
                    <a:off x="3581280" y="2700360"/>
                    <a:ext cx="1752840" cy="642960"/>
                    <a:chOff x="3581280" y="2700360"/>
                    <a:chExt cx="1752840" cy="642960"/>
                  </a:xfrm>
                </p:grpSpPr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3581280" y="2700360"/>
                      <a:ext cx="1752840" cy="642960"/>
                    </a:xfrm>
                    <a:prstGeom prst="roundRect">
                      <a:avLst>
                        <a:gd name="adj" fmla="val 245"/>
                      </a:avLst>
                    </a:prstGeom>
                    <a:solidFill>
                      <a:srgbClr val="ffff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"/>
                    <p:cNvSpPr/>
                    <p:nvPr/>
                  </p:nvSpPr>
                  <p:spPr>
                    <a:xfrm>
                      <a:off x="3581280" y="2700360"/>
                      <a:ext cx="1752840" cy="642960"/>
                    </a:xfrm>
                    <a:prstGeom prst="roundRect">
                      <a:avLst>
                        <a:gd name="adj" fmla="val 245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7696080" y="2754360"/>
                    <a:ext cx="1295640" cy="587160"/>
                    <a:chOff x="7696080" y="2754360"/>
                    <a:chExt cx="1295640" cy="58716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7696080" y="2754360"/>
                      <a:ext cx="1295640" cy="587160"/>
                    </a:xfrm>
                    <a:prstGeom prst="roundRect">
                      <a:avLst>
                        <a:gd name="adj" fmla="val 269"/>
                      </a:avLst>
                    </a:prstGeom>
                    <a:solidFill>
                      <a:srgbClr val="ffff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7696080" y="2754360"/>
                      <a:ext cx="1295640" cy="587160"/>
                    </a:xfrm>
                    <a:prstGeom prst="roundRect">
                      <a:avLst>
                        <a:gd name="adj" fmla="val 26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Ba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" name=""/>
                  <p:cNvGrpSpPr/>
                  <p:nvPr/>
                </p:nvGrpSpPr>
                <p:grpSpPr>
                  <a:xfrm>
                    <a:off x="5791320" y="2754360"/>
                    <a:ext cx="1447560" cy="587160"/>
                    <a:chOff x="5791320" y="2754360"/>
                    <a:chExt cx="1447560" cy="587160"/>
                  </a:xfrm>
                </p:grpSpPr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5791320" y="2754360"/>
                      <a:ext cx="1447560" cy="587160"/>
                    </a:xfrm>
                    <a:prstGeom prst="roundRect">
                      <a:avLst>
                        <a:gd name="adj" fmla="val 269"/>
                      </a:avLst>
                    </a:prstGeom>
                    <a:solidFill>
                      <a:srgbClr val="ffff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5791320" y="2754360"/>
                      <a:ext cx="1447560" cy="587160"/>
                    </a:xfrm>
                    <a:prstGeom prst="roundRect">
                      <a:avLst>
                        <a:gd name="adj" fmla="val 26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org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" name=""/>
                  <p:cNvGrpSpPr/>
                  <p:nvPr/>
                </p:nvGrpSpPr>
                <p:grpSpPr>
                  <a:xfrm>
                    <a:off x="1523880" y="2700360"/>
                    <a:ext cx="1524240" cy="642960"/>
                    <a:chOff x="1523880" y="2700360"/>
                    <a:chExt cx="1524240" cy="642960"/>
                  </a:xfrm>
                </p:grpSpPr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1523880" y="2700360"/>
                      <a:ext cx="1524240" cy="642960"/>
                    </a:xfrm>
                    <a:prstGeom prst="roundRect">
                      <a:avLst>
                        <a:gd name="adj" fmla="val 245"/>
                      </a:avLst>
                    </a:prstGeom>
                    <a:solidFill>
                      <a:srgbClr val="ffff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1523880" y="2700360"/>
                      <a:ext cx="1524240" cy="642960"/>
                    </a:xfrm>
                    <a:prstGeom prst="roundRect">
                      <a:avLst>
                        <a:gd name="adj" fmla="val 245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s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gi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0" name=""/>
                <p:cNvGrpSpPr/>
                <p:nvPr/>
              </p:nvGrpSpPr>
              <p:grpSpPr>
                <a:xfrm>
                  <a:off x="152280" y="3508200"/>
                  <a:ext cx="8839440" cy="1470240"/>
                  <a:chOff x="152280" y="3508200"/>
                  <a:chExt cx="8839440" cy="1470240"/>
                </a:xfrm>
              </p:grpSpPr>
              <p:grpSp>
                <p:nvGrpSpPr>
                  <p:cNvPr id="71" name=""/>
                  <p:cNvGrpSpPr/>
                  <p:nvPr/>
                </p:nvGrpSpPr>
                <p:grpSpPr>
                  <a:xfrm>
                    <a:off x="152280" y="3986280"/>
                    <a:ext cx="1067040" cy="514440"/>
                    <a:chOff x="152280" y="3986280"/>
                    <a:chExt cx="1067040" cy="51444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152280" y="3986280"/>
                      <a:ext cx="1067040" cy="514440"/>
                    </a:xfrm>
                    <a:prstGeom prst="roundRect">
                      <a:avLst>
                        <a:gd name="adj" fmla="val 306"/>
                      </a:avLst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152280" y="3986280"/>
                      <a:ext cx="1067040" cy="514440"/>
                    </a:xfrm>
                    <a:prstGeom prst="roundRect">
                      <a:avLst>
                        <a:gd name="adj" fmla="val 306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" name=""/>
                  <p:cNvGrpSpPr/>
                  <p:nvPr/>
                </p:nvGrpSpPr>
                <p:grpSpPr>
                  <a:xfrm>
                    <a:off x="3581280" y="3508200"/>
                    <a:ext cx="1752840" cy="588960"/>
                    <a:chOff x="3581280" y="3508200"/>
                    <a:chExt cx="1752840" cy="588960"/>
                  </a:xfrm>
                </p:grpSpPr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3581280" y="3508200"/>
                      <a:ext cx="1752840" cy="588960"/>
                    </a:xfrm>
                    <a:prstGeom prst="roundRect">
                      <a:avLst>
                        <a:gd name="adj" fmla="val 269"/>
                      </a:avLst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>
                      <a:off x="3581280" y="3508200"/>
                      <a:ext cx="1752840" cy="588960"/>
                    </a:xfrm>
                    <a:prstGeom prst="roundRect">
                      <a:avLst>
                        <a:gd name="adj" fmla="val 26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A / SR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" name=""/>
                  <p:cNvGrpSpPr/>
                  <p:nvPr/>
                </p:nvGrpSpPr>
                <p:grpSpPr>
                  <a:xfrm>
                    <a:off x="7696080" y="4389480"/>
                    <a:ext cx="1295640" cy="587160"/>
                    <a:chOff x="7696080" y="4389480"/>
                    <a:chExt cx="1295640" cy="587160"/>
                  </a:xfrm>
                </p:grpSpPr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7696080" y="4389480"/>
                      <a:ext cx="1295640" cy="587160"/>
                    </a:xfrm>
                    <a:prstGeom prst="roundRect">
                      <a:avLst>
                        <a:gd name="adj" fmla="val 269"/>
                      </a:avLst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7696080" y="4389480"/>
                      <a:ext cx="1295640" cy="587160"/>
                    </a:xfrm>
                    <a:prstGeom prst="roundRect">
                      <a:avLst>
                        <a:gd name="adj" fmla="val 26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Ba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" name=""/>
                  <p:cNvGrpSpPr/>
                  <p:nvPr/>
                </p:nvGrpSpPr>
                <p:grpSpPr>
                  <a:xfrm>
                    <a:off x="5791320" y="3508200"/>
                    <a:ext cx="1447560" cy="588960"/>
                    <a:chOff x="5791320" y="3508200"/>
                    <a:chExt cx="1447560" cy="588960"/>
                  </a:xfrm>
                </p:grpSpPr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5791320" y="3508200"/>
                      <a:ext cx="1447560" cy="588960"/>
                    </a:xfrm>
                    <a:prstGeom prst="roundRect">
                      <a:avLst>
                        <a:gd name="adj" fmla="val 269"/>
                      </a:avLst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5791320" y="3508200"/>
                      <a:ext cx="1447560" cy="588960"/>
                    </a:xfrm>
                    <a:prstGeom prst="roundRect">
                      <a:avLst>
                        <a:gd name="adj" fmla="val 26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3" name=""/>
                  <p:cNvGrpSpPr/>
                  <p:nvPr/>
                </p:nvGrpSpPr>
                <p:grpSpPr>
                  <a:xfrm>
                    <a:off x="1523880" y="3581280"/>
                    <a:ext cx="1524240" cy="514440"/>
                    <a:chOff x="1523880" y="3581280"/>
                    <a:chExt cx="1524240" cy="514440"/>
                  </a:xfrm>
                </p:grpSpPr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1523880" y="3581280"/>
                      <a:ext cx="1524240" cy="514440"/>
                    </a:xfrm>
                    <a:prstGeom prst="roundRect">
                      <a:avLst>
                        <a:gd name="adj" fmla="val 306"/>
                      </a:avLst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1523880" y="3581280"/>
                      <a:ext cx="1524240" cy="514440"/>
                    </a:xfrm>
                    <a:prstGeom prst="roundRect">
                      <a:avLst>
                        <a:gd name="adj" fmla="val 306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R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" name=""/>
                  <p:cNvGrpSpPr/>
                  <p:nvPr/>
                </p:nvGrpSpPr>
                <p:grpSpPr>
                  <a:xfrm>
                    <a:off x="1638360" y="4389480"/>
                    <a:ext cx="1295280" cy="587160"/>
                    <a:chOff x="1638360" y="4389480"/>
                    <a:chExt cx="1295280" cy="587160"/>
                  </a:xfrm>
                </p:grpSpPr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1638360" y="4389480"/>
                      <a:ext cx="1295280" cy="587160"/>
                    </a:xfrm>
                    <a:prstGeom prst="roundRect">
                      <a:avLst>
                        <a:gd name="adj" fmla="val 269"/>
                      </a:avLst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1638360" y="4389480"/>
                      <a:ext cx="1295280" cy="587160"/>
                    </a:xfrm>
                    <a:prstGeom prst="roundRect">
                      <a:avLst>
                        <a:gd name="adj" fmla="val 26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t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Ba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" name=""/>
                  <p:cNvSpPr/>
                  <p:nvPr/>
                </p:nvSpPr>
                <p:spPr>
                  <a:xfrm>
                    <a:off x="3048120" y="3801960"/>
                    <a:ext cx="533160" cy="1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5334120" y="3801960"/>
                    <a:ext cx="457200" cy="1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238880" y="3801960"/>
                    <a:ext cx="1079640" cy="1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344080" y="3801960"/>
                    <a:ext cx="1440" cy="587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2930400" y="4976640"/>
                    <a:ext cx="4765680" cy="1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2286000" y="4095720"/>
                    <a:ext cx="1440" cy="293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flipV="1">
                    <a:off x="6477120" y="4094280"/>
                    <a:ext cx="1440" cy="590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V="1">
                    <a:off x="4419720" y="4094280"/>
                    <a:ext cx="1440" cy="590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152280" y="5326200"/>
                  <a:ext cx="8839440" cy="1469880"/>
                  <a:chOff x="152280" y="5326200"/>
                  <a:chExt cx="8839440" cy="1469880"/>
                </a:xfrm>
              </p:grpSpPr>
              <p:grpSp>
                <p:nvGrpSpPr>
                  <p:cNvPr id="98" name=""/>
                  <p:cNvGrpSpPr/>
                  <p:nvPr/>
                </p:nvGrpSpPr>
                <p:grpSpPr>
                  <a:xfrm>
                    <a:off x="152280" y="5802480"/>
                    <a:ext cx="1067040" cy="515880"/>
                    <a:chOff x="152280" y="5802480"/>
                    <a:chExt cx="1067040" cy="515880"/>
                  </a:xfrm>
                </p:grpSpPr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152280" y="5802480"/>
                      <a:ext cx="1067040" cy="515880"/>
                    </a:xfrm>
                    <a:prstGeom prst="roundRect">
                      <a:avLst>
                        <a:gd name="adj" fmla="val 306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152280" y="5802480"/>
                      <a:ext cx="1067040" cy="515880"/>
                    </a:xfrm>
                    <a:prstGeom prst="roundRect">
                      <a:avLst>
                        <a:gd name="adj" fmla="val 306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" name=""/>
                  <p:cNvGrpSpPr/>
                  <p:nvPr/>
                </p:nvGrpSpPr>
                <p:grpSpPr>
                  <a:xfrm>
                    <a:off x="3581280" y="5326200"/>
                    <a:ext cx="1752840" cy="587160"/>
                    <a:chOff x="3581280" y="5326200"/>
                    <a:chExt cx="1752840" cy="587160"/>
                  </a:xfrm>
                </p:grpSpPr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3581280" y="5326200"/>
                      <a:ext cx="1752840" cy="587160"/>
                    </a:xfrm>
                    <a:prstGeom prst="roundRect">
                      <a:avLst>
                        <a:gd name="adj" fmla="val 269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3581280" y="5326200"/>
                      <a:ext cx="1752840" cy="587160"/>
                    </a:xfrm>
                    <a:prstGeom prst="roundRect">
                      <a:avLst>
                        <a:gd name="adj" fmla="val 26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ret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Es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7696080" y="6207120"/>
                    <a:ext cx="1295640" cy="587520"/>
                    <a:chOff x="7696080" y="6207120"/>
                    <a:chExt cx="1295640" cy="58752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7696080" y="6207120"/>
                      <a:ext cx="1295640" cy="587520"/>
                    </a:xfrm>
                    <a:prstGeom prst="roundRect">
                      <a:avLst>
                        <a:gd name="adj" fmla="val 269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7696080" y="6207120"/>
                      <a:ext cx="1295640" cy="587520"/>
                    </a:xfrm>
                    <a:prstGeom prst="roundRect">
                      <a:avLst>
                        <a:gd name="adj" fmla="val 26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Ba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5791320" y="5326200"/>
                    <a:ext cx="1447560" cy="882360"/>
                    <a:chOff x="5791320" y="5326200"/>
                    <a:chExt cx="1447560" cy="88236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5791320" y="5326200"/>
                      <a:ext cx="1447560" cy="882360"/>
                    </a:xfrm>
                    <a:prstGeom prst="roundRect">
                      <a:avLst>
                        <a:gd name="adj" fmla="val 176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5791320" y="5326200"/>
                      <a:ext cx="1447560" cy="882360"/>
                    </a:xfrm>
                    <a:prstGeom prst="roundRect">
                      <a:avLst>
                        <a:gd name="adj" fmla="val 176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o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u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1523880" y="5398920"/>
                    <a:ext cx="1524240" cy="514440"/>
                    <a:chOff x="1523880" y="5398920"/>
                    <a:chExt cx="1524240" cy="51444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1523880" y="5398920"/>
                      <a:ext cx="1524240" cy="514440"/>
                    </a:xfrm>
                    <a:prstGeom prst="roundRect">
                      <a:avLst>
                        <a:gd name="adj" fmla="val 306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23880" y="5398920"/>
                      <a:ext cx="1524240" cy="514440"/>
                    </a:xfrm>
                    <a:prstGeom prst="roundRect">
                      <a:avLst>
                        <a:gd name="adj" fmla="val 306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3" name=""/>
                  <p:cNvGrpSpPr/>
                  <p:nvPr/>
                </p:nvGrpSpPr>
                <p:grpSpPr>
                  <a:xfrm>
                    <a:off x="1638360" y="6207120"/>
                    <a:ext cx="1295280" cy="587520"/>
                    <a:chOff x="1638360" y="6207120"/>
                    <a:chExt cx="1295280" cy="587520"/>
                  </a:xfrm>
                </p:grpSpPr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1638360" y="6207120"/>
                      <a:ext cx="1295280" cy="587520"/>
                    </a:xfrm>
                    <a:prstGeom prst="roundRect">
                      <a:avLst>
                        <a:gd name="adj" fmla="val 269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1638360" y="6207120"/>
                      <a:ext cx="1295280" cy="587520"/>
                    </a:xfrm>
                    <a:prstGeom prst="roundRect">
                      <a:avLst>
                        <a:gd name="adj" fmla="val 26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t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Ba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" name=""/>
                  <p:cNvSpPr/>
                  <p:nvPr/>
                </p:nvSpPr>
                <p:spPr>
                  <a:xfrm>
                    <a:off x="3048120" y="5619600"/>
                    <a:ext cx="533160" cy="1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5334120" y="5619600"/>
                    <a:ext cx="457200" cy="1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238880" y="5619600"/>
                    <a:ext cx="1079640" cy="1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8344080" y="5619600"/>
                    <a:ext cx="1440" cy="587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2930400" y="6794640"/>
                    <a:ext cx="476568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2286000" y="5913360"/>
                    <a:ext cx="1440" cy="293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>
                    <a:off x="6477120" y="6205320"/>
                    <a:ext cx="1440" cy="298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V="1">
                    <a:off x="4419720" y="5909760"/>
                    <a:ext cx="1440" cy="592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2971800" y="6500880"/>
                    <a:ext cx="350532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5" name=""/>
              <p:cNvGrpSpPr/>
              <p:nvPr/>
            </p:nvGrpSpPr>
            <p:grpSpPr>
              <a:xfrm>
                <a:off x="1562040" y="2259000"/>
                <a:ext cx="3733920" cy="293760"/>
                <a:chOff x="1562040" y="2259000"/>
                <a:chExt cx="3733920" cy="2937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562040" y="2259000"/>
                  <a:ext cx="3733920" cy="293760"/>
                </a:xfrm>
                <a:prstGeom prst="roundRect">
                  <a:avLst>
                    <a:gd name="adj" fmla="val 542"/>
                  </a:avLst>
                </a:prstGeom>
                <a:solidFill>
                  <a:srgbClr val="0000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562040" y="2259000"/>
                  <a:ext cx="3733920" cy="293760"/>
                </a:xfrm>
                <a:prstGeom prst="roundRect">
                  <a:avLst>
                    <a:gd name="adj" fmla="val 54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ff00"/>
                      </a:solidFill>
                      <a:latin typeface="Arial"/>
                    </a:rPr>
                    <a:t>Formulação da Polít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753160" y="2057400"/>
                <a:ext cx="3257640" cy="642960"/>
                <a:chOff x="5753160" y="2057400"/>
                <a:chExt cx="3257640" cy="6429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753160" y="2057400"/>
                  <a:ext cx="3257640" cy="642960"/>
                </a:xfrm>
                <a:prstGeom prst="roundRect">
                  <a:avLst>
                    <a:gd name="adj" fmla="val 245"/>
                  </a:avLst>
                </a:prstGeom>
                <a:solidFill>
                  <a:srgbClr val="0000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753160" y="2057400"/>
                  <a:ext cx="3257640" cy="642960"/>
                </a:xfrm>
                <a:prstGeom prst="roundRect">
                  <a:avLst>
                    <a:gd name="adj" fmla="val 2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ff00"/>
                      </a:solidFill>
                      <a:latin typeface="Arial"/>
                    </a:rPr>
                    <a:t>Implementação d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ff00"/>
                      </a:solidFill>
                      <a:latin typeface="Arial"/>
                    </a:rPr>
                    <a:t>Instrumentos de Polít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030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104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ts val="286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r>
              <a:rPr b="1" lang="en-GB" sz="2800" spc="-1" strike="noStrike">
                <a:solidFill>
                  <a:srgbClr val="ff0000"/>
                </a:solidFill>
                <a:latin typeface="Arial Unicode MS"/>
              </a:rPr>
              <a:t>HIST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</a:rPr>
              <a:t>CRIAÇÃO: </a:t>
            </a:r>
            <a:r>
              <a:rPr b="1" lang="en-GB" sz="2400" spc="-1" strike="noStrike">
                <a:solidFill>
                  <a:srgbClr val="ff0000"/>
                </a:solidFill>
                <a:latin typeface="Arial Unicode MS"/>
              </a:rPr>
              <a:t>Lei nº 9.433/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</a:rPr>
              <a:t>REGULAMENTAÇÃO: </a:t>
            </a:r>
            <a:r>
              <a:rPr b="1" lang="en-GB" sz="2400" spc="-1" strike="noStrike">
                <a:solidFill>
                  <a:srgbClr val="ff0000"/>
                </a:solidFill>
                <a:latin typeface="Arial Unicode MS"/>
              </a:rPr>
              <a:t>Decreto nº 4.613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</a:rPr>
              <a:t>REUNIÃO DE INSTALAÇÃO: </a:t>
            </a:r>
            <a:r>
              <a:rPr b="1" lang="en-GB" sz="2400" spc="-1" strike="noStrike">
                <a:solidFill>
                  <a:srgbClr val="ff0000"/>
                </a:solidFill>
                <a:latin typeface="Arial Unicode MS"/>
              </a:rPr>
              <a:t>5/11/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</a:rPr>
              <a:t>REGIMENTO INTERNO:</a:t>
            </a:r>
            <a:r>
              <a:rPr b="1" lang="en-GB" sz="2400" spc="-1" strike="noStrike">
                <a:solidFill>
                  <a:srgbClr val="ff0000"/>
                </a:solidFill>
                <a:latin typeface="Arial Unicode MS"/>
              </a:rPr>
              <a:t> aprovado em 25/6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</a:rPr>
              <a:t>ALTERAÇÃO DA COMPOSIÇÃO: </a:t>
            </a:r>
            <a:r>
              <a:rPr b="1" lang="en-GB" sz="2400" spc="-1" strike="noStrike">
                <a:solidFill>
                  <a:srgbClr val="ff0000"/>
                </a:solidFill>
                <a:latin typeface="Arial Unicode MS"/>
              </a:rPr>
              <a:t>Decreto nº 4.613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ts val="3336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 Unicode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 Unicode MS"/>
              </a:rPr>
              <a:t>    </a:t>
            </a:r>
            <a:r>
              <a:rPr b="1" lang="en-GB" sz="2800" spc="-1" strike="noStrike">
                <a:solidFill>
                  <a:srgbClr val="ff0000"/>
                </a:solidFill>
                <a:latin typeface="Arial Unicode MS"/>
              </a:rPr>
              <a:t>C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</a:rPr>
              <a:t>ÓRGÃO MÁXIMO DO SINGRE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</a:rPr>
              <a:t>CARÁTER NORMATIVO E DELIB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</a:rPr>
              <a:t>FÓRUM DE DISCUSSÃO (GOVERNO, USUÁRIOS E SOCIEDADE CIV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15030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Unicode MS"/>
              </a:rPr>
              <a:t>ATRIBUI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 Unicode MS"/>
              </a:rPr>
              <a:t>ANALISAR</a:t>
            </a:r>
            <a:r>
              <a:rPr b="1" lang="en-GB" sz="1400" spc="-1" strike="noStrike">
                <a:solidFill>
                  <a:srgbClr val="000099"/>
                </a:solidFill>
                <a:latin typeface="Arial Unicode MS"/>
              </a:rPr>
              <a:t> PROPOSTAS DE ALTERAÇÃO DA LEGISLAÇÃO PERTINENTE À RECURSOS HÍDRICOS E À POLÍTICA NACIONAL D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 Unicode MS"/>
              </a:rPr>
              <a:t>ESTABELECER</a:t>
            </a:r>
            <a:r>
              <a:rPr b="1" lang="en-GB" sz="1400" spc="-1" strike="noStrike">
                <a:solidFill>
                  <a:srgbClr val="000099"/>
                </a:solidFill>
                <a:latin typeface="Arial Unicode MS"/>
              </a:rPr>
              <a:t> DIRETRIZES COMPLEMENTARES PARA IMPLEMENTAÇÃO DA POLÍTICA NACIONAL D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 Unicode MS"/>
              </a:rPr>
              <a:t>PROMOVER </a:t>
            </a:r>
            <a:r>
              <a:rPr b="1" lang="en-GB" sz="1400" spc="-1" strike="noStrike">
                <a:solidFill>
                  <a:srgbClr val="000099"/>
                </a:solidFill>
                <a:latin typeface="Arial Unicode MS"/>
              </a:rPr>
              <a:t>A ARTICULAÇÃO DO PLANEJAMENTO DE RECURSOS HÍDRICOS COM OS PLANEJAMENTOS NACIONAL, REGIONAIS, ESTADUAIS E DOS SETORES USUÁRIO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 Unicode MS"/>
              </a:rPr>
              <a:t>ARBITRAR</a:t>
            </a:r>
            <a:r>
              <a:rPr b="1" lang="en-GB" sz="1400" spc="-1" strike="noStrike">
                <a:solidFill>
                  <a:srgbClr val="000099"/>
                </a:solidFill>
                <a:latin typeface="Arial Unicode MS"/>
              </a:rPr>
              <a:t> CONFLITOS SOBR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 Unicode MS"/>
              </a:rPr>
              <a:t>DELIBERAR</a:t>
            </a:r>
            <a:r>
              <a:rPr b="1" lang="en-GB" sz="1400" spc="-1" strike="noStrike">
                <a:solidFill>
                  <a:srgbClr val="000099"/>
                </a:solidFill>
                <a:latin typeface="Arial Unicode MS"/>
              </a:rPr>
              <a:t> SOBRE OS PROJETOS DE APROVEITAMENTO DE RECURSOS HÍDRICOS CUJAS REPERCUSSÕES EXTRAPOLEM O ÂMBITO DOS ESTAD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 Unicode MS"/>
              </a:rPr>
              <a:t>APROVAR</a:t>
            </a:r>
            <a:r>
              <a:rPr b="1" lang="en-GB" sz="1400" spc="-1" strike="noStrike">
                <a:solidFill>
                  <a:srgbClr val="000099"/>
                </a:solidFill>
                <a:latin typeface="Arial Unicode MS"/>
              </a:rPr>
              <a:t> PROPOSTAS DE INSTITUIÇÃO DE COMITÊS DE BACIA HIDROGRÁFIC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 Unicode MS"/>
              </a:rPr>
              <a:t>ESTABELECER</a:t>
            </a:r>
            <a:r>
              <a:rPr b="1" lang="en-GB" sz="1400" spc="-1" strike="noStrike">
                <a:solidFill>
                  <a:srgbClr val="000099"/>
                </a:solidFill>
                <a:latin typeface="Arial Unicode MS"/>
              </a:rPr>
              <a:t> CRITÉRIOS GERAIS PARA A OUTORGA DE DIREITO DE USO DE RECURSOS HÍDRICOS E PARA A COBRANÇA POR SEU USO;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 Unicode MS"/>
              </a:rPr>
              <a:t>APROVAR </a:t>
            </a:r>
            <a:r>
              <a:rPr b="1" lang="en-GB" sz="1400" spc="-1" strike="noStrike">
                <a:solidFill>
                  <a:srgbClr val="000099"/>
                </a:solidFill>
                <a:latin typeface="Arial Unicode MS"/>
              </a:rPr>
              <a:t>O PLANO NACIONAL DE RECURSOS HÍDRICOS E ACOMPANHAR SUA EXECU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ts val="3098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 Unicode MS"/>
              </a:rPr>
              <a:t>      </a:t>
            </a:r>
            <a:r>
              <a:rPr b="1" lang="en-GB" sz="2100" spc="-1" strike="noStrike" u="sng">
                <a:solidFill>
                  <a:srgbClr val="ff0000"/>
                </a:solidFill>
                <a:uFillTx/>
                <a:latin typeface="Arial Unicode MS"/>
              </a:rPr>
              <a:t>CÂMARAS TÉCNICAS</a:t>
            </a:r>
            <a:r>
              <a:rPr b="1" lang="en-GB" sz="21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0099"/>
                </a:solidFill>
                <a:latin typeface="Arial Unicode MS"/>
              </a:rPr>
              <a:t>ASSESSORAM TECNICAMENTE O CNRH (RECOMENDAM A DECISÃO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0099"/>
                </a:solidFill>
                <a:latin typeface="Arial Unicode MS"/>
              </a:rPr>
              <a:t>ATUALMENTE SÃO DEZ (7 a 17 membros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Arial Unicode MS"/>
              </a:rPr>
              <a:t>COMPETÊNCIAS GERAI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0099"/>
                </a:solidFill>
                <a:latin typeface="Arial Unicode MS"/>
              </a:rPr>
              <a:t>EXAMINAR ASSUNTOS DE SUA COMPETÊNCIA E RELATAR AO PLENÁR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0099"/>
                </a:solidFill>
                <a:latin typeface="Arial Unicode MS"/>
              </a:rPr>
              <a:t>COMPOSIÇÃO QUE PERMITE A INTEGRAÇÃO DOS SETO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0099"/>
                </a:solidFill>
                <a:latin typeface="Arial Unicode MS"/>
              </a:rPr>
              <a:t>PROCESSO DE DISCUSSÃO: DEMOCRÁTICO, ABERTO E PARTICIPATIV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46484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âmaras Técnicas do C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CT de Assuntos Legais e Institucionais - C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CT do Plano Nacional de Recursos Hídricos - CTP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CT de Integração de Procedimentos, Ações de Outorga e Ações Reguladoras - CTPO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CT de Análise de Projeto - CT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CT de Águas Subterrâneas - C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CT de Gestão de Recursos Hídricos Transfronteiriços - CTGR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CT de Ciência e Tecnologia - CT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CT de Cobrança pelo Uso de Recursos Hídricos - CTC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Unicode MS"/>
              </a:rPr>
              <a:t>CT de Educação, Capacitação, Mobilização Social e Informação em Recursos Hídricos – C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CT de Integração da Gestão das Bacias Hidrográficas e dos Sistemas Estuarinos e Zona Costeira - CT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6484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mpetências C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696080" cy="47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 algn="just">
              <a:lnSpc>
                <a:spcPct val="96000"/>
              </a:lnSpc>
              <a:spcBef>
                <a:spcPts val="499"/>
              </a:spcBef>
              <a:spcAft>
                <a:spcPts val="601"/>
              </a:spcAft>
              <a:buClr>
                <a:srgbClr val="000099"/>
              </a:buClr>
              <a:buFont typeface="Arial Unicode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I - propor diretrizes, planos e programas de educação e capacitação em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 algn="just">
              <a:lnSpc>
                <a:spcPct val="96000"/>
              </a:lnSpc>
              <a:spcBef>
                <a:spcPts val="499"/>
              </a:spcBef>
              <a:spcAft>
                <a:spcPts val="601"/>
              </a:spcAft>
              <a:buClr>
                <a:srgbClr val="000099"/>
              </a:buClr>
              <a:buFont typeface="Arial Unicode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II - propor e analisar mecanismos de articulação e cooperação entre o poder público, os setores usuários e a sociedade civil quanto à educação e capacitação em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 algn="just">
              <a:lnSpc>
                <a:spcPct val="96000"/>
              </a:lnSpc>
              <a:spcBef>
                <a:spcPts val="499"/>
              </a:spcBef>
              <a:spcAft>
                <a:spcPts val="601"/>
              </a:spcAft>
              <a:buClr>
                <a:srgbClr val="000099"/>
              </a:buClr>
              <a:buFont typeface="Arial Unicode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III - propor e analisar mecanismos de mobilização social para fortalecimento do Sistema Nacional de Gerenciamento de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 algn="just">
              <a:lnSpc>
                <a:spcPct val="96000"/>
              </a:lnSpc>
              <a:spcBef>
                <a:spcPts val="499"/>
              </a:spcBef>
              <a:spcAft>
                <a:spcPts val="601"/>
              </a:spcAft>
              <a:buClr>
                <a:srgbClr val="000099"/>
              </a:buClr>
              <a:buFont typeface="Arial Unicode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IV - propor e analisar mecanismos de difusão da Política Nacional de Recursos Hídricos nos sistemas de ensino, tornando efetivos os fundamentos da Lei no 9.433, de 8 de janeiro de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46484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mpetências C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 algn="just">
              <a:lnSpc>
                <a:spcPct val="96000"/>
              </a:lnSpc>
              <a:spcBef>
                <a:spcPts val="499"/>
              </a:spcBef>
              <a:spcAft>
                <a:spcPts val="601"/>
              </a:spcAft>
              <a:buClr>
                <a:srgbClr val="000099"/>
              </a:buClr>
              <a:buFont typeface="Arial Unicode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V - propor e analisar diretrizes de disseminação da informação sobre os recursos hídricos voltadas para a sociedade, utilizando as formas de comunicação que alcancem a 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 algn="just">
              <a:lnSpc>
                <a:spcPct val="96000"/>
              </a:lnSpc>
              <a:spcBef>
                <a:spcPts val="499"/>
              </a:spcBef>
              <a:spcAft>
                <a:spcPts val="601"/>
              </a:spcAft>
              <a:buClr>
                <a:srgbClr val="000099"/>
              </a:buClr>
              <a:buFont typeface="Arial Unicode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VI - recomendar critérios referentes ao conteúdo de educação em recursos hídricos nos livros didáticos, assim como para os planos de mídia relacionados ao tema de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VII - exercer competências do Conselho Nacional de Recursos Hídricos que lhe forem especialmente delegadas pelo Plenário e CT de Assuntos Legais e Institucionais - C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